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EAB8-9CB7-44EE-B84C-CC09F560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FAEC-46E1-4F66-8409-389D9951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195B-29B3-4C38-B549-3F8C76DA2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2C6F-E65A-4CAC-BA85-37418EC15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4C3E-683C-49D6-9FFB-D91491C29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1AA5-DF14-402F-B709-F54F04E2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49E4-277C-4368-B250-9EE1D3FE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4A36-CB8E-4D64-AC7A-75A47E31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37B7-33DC-4830-97B4-1446A86A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B46E-375E-4144-83B3-0CD22330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9464-6DC2-4CBA-8ABA-028A9739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8D31-8B0C-4CA9-997E-F23C8B2C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8B5B-4371-4439-B3E7-8DB01033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5B12-C1AD-4608-8712-AA7E0CE3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C340-D183-4ABD-841F-CC452C9E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98E9-3021-4D61-859F-8AA6EC54B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301D-436C-481B-8E74-C878BC2BA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F295-B9A7-4C32-8D74-01F07170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E4B9-B340-42AA-800B-890F4669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36B1-F559-4219-9C2F-E25C169B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A24F-A739-4E8D-97D9-4C95F92B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FF51-BEBC-4DD8-BA96-55F8667F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687A-FB05-4F33-8B2C-FFCB26B3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C45E-B110-4933-A2B9-E0B49E9A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1B29-B71B-4CBD-A582-6CA31B2978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F68F-6900-4809-B681-8EBBD0EE1D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68720"/>
            <a:ext cx="770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Основные возможност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программного комплекс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563840" y="241200"/>
            <a:ext cx="657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Электронный технический архи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Отбор объек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0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676440" y="55404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редусмотрена возможность отбора объектов в электронном техническом архиве по решаемым разделам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задачам ПОС и ППР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1004760" y="1328760"/>
            <a:ext cx="7510680" cy="41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563840" y="2412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Автоматизация разработки сложных разделов и задач проектной документаци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1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49440" y="1314360"/>
            <a:ext cx="8121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состав программного комплекса входят программные модули, предназначенные для автоматизированного решения наиболее сложных и трудоемких задач организационно-технологического проектирова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ля решения графических задач в программных модулях используется система AutoCAD компании Autodesk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ли система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ricsCAD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омпании Bricsys NV. С помощью CAD-системы выполняются графические построения и формируется выходная документация с использованием баз данных программного комплекс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ешение расчетных задач базируется на применении СУБД и различных математических метод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ополнительная исходная информация, необходимая для работы программных модулей, содержится в технологических справочниках программного комплекс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граммные модули обеспечивают решение задач, влияющих на уровень технологической дисциплины в реальных условиях стройки  и которые являются предметом контроля состояния строительного объекта и строительной площадки со стороны проверяющих орган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563840" y="241200"/>
            <a:ext cx="65768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c00"/>
                </a:solidFill>
                <a:latin typeface="Times New Roman"/>
              </a:rPr>
              <a:t>Автоматизация разработки разделов и задач ПОС и ППР с использованием программных модулей в </a:t>
            </a: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CAD</a:t>
            </a:r>
            <a:r>
              <a:rPr b="1" i="1" lang="ru-RU" sz="2600" spc="-1" strike="noStrike">
                <a:solidFill>
                  <a:srgbClr val="ffcc00"/>
                </a:solidFill>
                <a:latin typeface="Times New Roman"/>
              </a:rPr>
              <a:t>-систем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2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2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676440" y="571824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 помощью CAD-системы выполняются графические построения и формируется выходная документация с использованием баз данных программного комплекса. Имеется возможность настройки свойств (слоев, стилей и типов линий) графических построений, выполняемых с помощью программных модуле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820800" y="1641600"/>
            <a:ext cx="3647880" cy="391932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5"/>
          <a:stretch/>
        </p:blipFill>
        <p:spPr>
          <a:xfrm>
            <a:off x="5097600" y="1647720"/>
            <a:ext cx="3563640" cy="392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563840" y="165240"/>
            <a:ext cx="657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ехнологические справочни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Строительная техн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3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3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676440" y="599760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правочник содержит перечень наименований марок строительной техники, структурированных по основным видам техники. По маркам техники приводится их техническое описание, фото, схемы устройств и чертежи в формате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WG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1461960" y="1133640"/>
            <a:ext cx="667224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563840" y="114480"/>
            <a:ext cx="657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ехнологические справочни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Типы временных огражд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4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4"/>
          <a:stretch/>
        </p:blipFill>
        <p:spPr>
          <a:xfrm>
            <a:off x="1165320" y="1074600"/>
            <a:ext cx="7223040" cy="48625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76440" y="60483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правочник содержит перечень наименований типов ограждений, их графическое представление и список материалов, необходимых для устройства ограждения данного типа, включая нормы расхода на 100 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1563840" y="241200"/>
            <a:ext cx="65768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ехнологические справочни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Нормы расхода воды на производственные нуж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5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5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676440" y="571824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правочник содержит нормы расхода воды на производственные нужды по потребителям в литрах на единицу в смену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4"/>
          <a:stretch/>
        </p:blipFill>
        <p:spPr>
          <a:xfrm>
            <a:off x="509760" y="1560600"/>
            <a:ext cx="8124480" cy="40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563840" y="241200"/>
            <a:ext cx="65768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ехнологические справочни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Нормы потребности в электроэнергии на строительную техник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6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6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676440" y="571824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правочник содержит нормы потребности в электроэнергии на строительную технику в кВт на единицу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4"/>
          <a:stretch/>
        </p:blipFill>
        <p:spPr>
          <a:xfrm>
            <a:off x="752400" y="1697040"/>
            <a:ext cx="7734240" cy="37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63840" y="241200"/>
            <a:ext cx="65768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ехнологические справочни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Параметры осветительных установок общего равномерного освещения при нормируемой освещенности 2 л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7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7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676440" y="571824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анный справочник предназначен для учета параметров осветительных установок общего равномерного освещения строительных площадок при нормируемой освещенности 2 лк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4"/>
          <a:stretch/>
        </p:blipFill>
        <p:spPr>
          <a:xfrm>
            <a:off x="1122480" y="2004840"/>
            <a:ext cx="7103880" cy="363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63840" y="241200"/>
            <a:ext cx="65768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ехнологические справочни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Марки грузов и грузозахватные приспособления для разгрузки и монтаж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8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8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676440" y="571824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правочник содержит перечень марок грузов и грузозахватных приспособлений для их разгрузки и монтаж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1649520" y="1581120"/>
            <a:ext cx="642780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563840" y="241200"/>
            <a:ext cx="657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ехнологические справочни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Нормы складирования материалов и издел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9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9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676440" y="571824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правочник содержит перечень норм складирования количества материалов и изделий, укладываемых на 1 м2 площади склада (без учета проходов и проездов) и норм запас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4"/>
          <a:stretch/>
        </p:blipFill>
        <p:spPr>
          <a:xfrm>
            <a:off x="792000" y="1352520"/>
            <a:ext cx="8033040" cy="41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563840" y="8892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Обоснованная структура разделов и задач для разработки ПОС и ППР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676440" y="5364000"/>
            <a:ext cx="8121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каждого из основных видов строительства разработана структура разделов и задач ПОС и ППР. Для каждого раздела и задачи приведены соответствующие нормативные, методические документы и примеры выполненных разработок. Решения типовых задач реализованы в программных модулях, обеспечивающих выполнение необходимых расчетов, графических построений и формирование текстовой документации. Перечень разделов и задач ПОС и ППР содержит около 500 наименован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1376280" y="1082520"/>
            <a:ext cx="6834240" cy="424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1563840" y="241200"/>
            <a:ext cx="657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ехнологические справочни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Схемы складиров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40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76440" y="571824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правочник содержит перечень  схем складирования материалов и изделий с графическими изображениям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4"/>
          <a:stretch/>
        </p:blipFill>
        <p:spPr>
          <a:xfrm>
            <a:off x="1295280" y="1243080"/>
            <a:ext cx="6950160" cy="44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563840" y="241200"/>
            <a:ext cx="657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ехнологические справочни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Виды строительных грун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41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1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92280" cy="76212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676440" y="571824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правочник содержит перечень видов грунтов с указанием плотности, коэффициента разрыхления, группы грунтов в зависимости от трудности их разработки механизированным способом одноковшовыми экскаваторами, скреперами, бульдозерами и грейдерами, максимально допустимой крутизны откос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4"/>
          <a:stretch/>
        </p:blipFill>
        <p:spPr>
          <a:xfrm>
            <a:off x="689040" y="1293840"/>
            <a:ext cx="8172360" cy="42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1563840" y="241200"/>
            <a:ext cx="657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ехнологические справочни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Временные здания и сооруж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42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2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92280" cy="7621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676440" y="58323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правочник содержит структурированный перечень временных зданий и сооружений, сгруппированный по видам, список назначений текущего здания с нормативными показателями (полезная площадь или расчетное количество человек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4"/>
          <a:stretch/>
        </p:blipFill>
        <p:spPr>
          <a:xfrm>
            <a:off x="1395360" y="1155600"/>
            <a:ext cx="63532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563840" y="76320"/>
            <a:ext cx="657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ехнологические справочни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Нормы продолжительности строитель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43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3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92280" cy="76212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676440" y="62262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правочник содержит структурированный перечень норм продолжительности строительства в соответствии с документами: СНиП 1.04.03-85*, МРР-3.2.81-12, МДС 12-43.2008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4"/>
          <a:stretch/>
        </p:blipFill>
        <p:spPr>
          <a:xfrm>
            <a:off x="2166840" y="1139760"/>
            <a:ext cx="5392800" cy="497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563840" y="8892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Нормативно-методическа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основа разработок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676440" y="5199120"/>
            <a:ext cx="81216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едоставляется удобный доступ к нормативным, справочно-методическим документам, текстовым, цифровым, табличным и графическим материалам. Принцип поиска нужных материалов - идем от конкретной задачи структурированного перечня. Следует подчеркнуть простоту поиска материалов с использованием электронных закладок; проектировщику требуется только задать нужный ему раздел/задачу и все соответствующие материалы будут в его распоряжении. Таким образом, проектировщик, решая конкретную задачу, имеет возможность использовать все имеющиеся по данной задаче материалы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1495440" y="1041480"/>
            <a:ext cx="6680160" cy="41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563840" y="241200"/>
            <a:ext cx="657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Электронный технический архи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Объек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76440" y="569916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ограммный комплекс предоставляет возможность создавать, вести и использовать для повседневной работы электронный технический архив. В архиве можно регистрировать объекты и всю проектную документацию по ним, выбирать объект для последующей работы с ним, продолжать работу над документами по объекту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666720" y="1128600"/>
            <a:ext cx="7985160" cy="453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563840" y="241200"/>
            <a:ext cx="657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Электронный технический архи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Регистрация объек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676440" y="461340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регистрации нового объекта необходимо ввести его наименование и задать вид объекта. Кроме этого, можно автоматически создать для нового объекта  структуру разделов и задач ПОС и ППР на основе соответствующего справочника со всей информацией (включая файлы примеров, нормативных материалов, методик и т.п.), относящейся к решаемым задача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1643040" y="1395360"/>
            <a:ext cx="6351480" cy="29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563840" y="241200"/>
            <a:ext cx="65768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c00"/>
                </a:solidFill>
                <a:latin typeface="Times New Roman"/>
              </a:rPr>
              <a:t>Электронный технический архи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Times New Roman"/>
              </a:rPr>
              <a:t>Разделы</a:t>
            </a: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/</a:t>
            </a:r>
            <a:r>
              <a:rPr b="1" i="1" lang="ru-RU" sz="2400" spc="-1" strike="noStrike">
                <a:solidFill>
                  <a:srgbClr val="ffcc00"/>
                </a:solidFill>
                <a:latin typeface="Times New Roman"/>
              </a:rPr>
              <a:t>задачи и документы ПОС и ППР по объект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76440" y="61246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В электронном техническом архиве по объекту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ожно регистрировать проектные документы отдельно по каждому разделу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задаче ПОС и ППР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660240" y="1654200"/>
            <a:ext cx="8158320" cy="44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563840" y="241200"/>
            <a:ext cx="65768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Электронный технический архи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Регистрация проектного документа по объект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1305000" y="1668600"/>
            <a:ext cx="6927840" cy="31892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76440" y="50068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ля регистрации проектного документа по объекту необходимо выбрать раздел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задачу, к которой он относится,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ввести наименование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окумента и указать на файл докумен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563840" y="241200"/>
            <a:ext cx="657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Электронный технический архи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Показатели по объект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676440" y="60483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ограммный комплекс обеспечивает возможность ввода и хранения в электронном техническом архиве по объекту пользовательских показателей и показателей программных модуле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1257480" y="1190520"/>
            <a:ext cx="7043400" cy="475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563840" y="279360"/>
            <a:ext cx="657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Электронный технический архи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Строительная техника на объект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9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676440" y="5489640"/>
            <a:ext cx="812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ограммный комплекс обеспечивает возможность ввода и хранения в электронном техническом архиве по объекту списка строительной техники с указанием ее количества по каждой марке. Список техники формируется с использованием справочника строительной техники или вручную.  Обеспечивается возможность печати ведомости потребности в основных строительных машинах и механизмах на объекте.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>
            <a:off x="1036800" y="1371600"/>
            <a:ext cx="7538760" cy="3962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7-01-10T13:38:05Z</dcterms:modified>
  <cp:revision>266</cp:revision>
  <dc:subject/>
  <dc:title>Слайд 1</dc:title>
</cp:coreProperties>
</file>